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46C6-105F-41D3-8CE5-47776CF9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01CD-8E5B-415F-95D7-D8CB7EFF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24CB2-B156-4EC7-8FB7-6703E142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A66C-A7A3-4707-A036-1C72254E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B01B-86D9-4A2C-B106-E33932D4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8A08-9923-4139-8C53-6F4535AF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FB82-C9BB-4091-9BDE-DB4F3DE8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5182-C512-462D-9664-039CCF06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4DB9-814E-4BEA-8F98-173B8E29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A99C-21CD-4547-9C77-B50B7003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B796-BF98-4A3F-A321-ADF4B881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AFBE-B2AE-4F96-8508-E14B8747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FA9E-E5E2-4A95-9F2A-54A1AD2D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7920-24EC-4E5E-A1EB-CAE0F06B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91EE-F844-4E72-A132-C30630BA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9B5C-4EB3-4542-AADE-9A37BC2A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5D2B-0F3C-4C31-8572-7889DFA0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ECC05-2F8E-4B46-8850-B6393485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F884-9F6D-4E36-9B36-93723A04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823D-CECD-4016-BAF7-43B00D65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1E53C-9DB7-4615-9D25-93431405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570C-DBBC-447F-81DC-175AB67E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6510-E96B-4E26-A576-8EC703FB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D8F34-FBB5-4764-8BA5-76886CD4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55AE-2C0E-45FD-A705-54922AA9EE8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36F5-8700-47AD-A3D8-F3A592E774B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193760"/>
            <a:ext cx="95774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  <a:ea typeface="Arial"/>
              </a:rPr>
              <a:t>232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  <a:ea typeface="Arial"/>
              </a:rPr>
              <a:t>Пр.324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  <a:ea typeface="Arial"/>
              </a:rPr>
              <a:t> Разгласяй, о, Сноне, вест велика: заря небесна тъмннй свят огря! 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rial"/>
                <a:ea typeface="Arial"/>
              </a:rPr>
              <a:t>С пречудна обич тя от Бога блика, ръка на помощ Той към нас простря!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14432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вест на радост, таз вест н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,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вест да екне по целия всеми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Ей, още гинат хиляди във мрака, заробени, измъчени от грях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ажи им, че Спасителят ги чака, спасение приготвял е за тях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14432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вест на радост, таз вест н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,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вест да екне по целия всеми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958320"/>
            <a:ext cx="957744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Таз вест блажена в племена, народ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да каже всеки нека е готов! Таз вест и в най-далечни небосводи да прогласи, че Господ е любов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14432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вест на радост, таз вест н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,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вест да екне по целия всеми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О, не жалете вий имот, богатство! Нов ден по-скоро да се зазори! Посланици на туй велико царство пратете синове н дъщер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14432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3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вест на радост, таз вест н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мир,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вест да екне по целия всемир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03T14:44:30Z</dcterms:modified>
  <cp:revision>168</cp:revision>
  <dc:subject/>
  <dc:title>Slide 1</dc:title>
</cp:coreProperties>
</file>